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4DBA-C7EC-46F1-B593-00D8E832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8687-DC7A-4A25-A364-A5094AE4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B168-2F32-4446-BA7C-15C09BF1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28B8-982C-478B-B79D-02D92A1A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65BE-39C5-462C-B7CE-23F54E72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86C8-BB3D-4436-90C2-4D7EBC96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2EB5-A910-4765-BF44-9FDD9B1B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DDE6-DD8F-4804-9861-752AB4B7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1D58-BCCE-420D-840F-E7EBC49C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0F97-802A-4077-8061-19351A92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8872-9BEA-4B49-8229-E649BA3B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822A-BC2E-4797-BBDF-34247D19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59A1-34AB-4764-9B5D-26479A2F018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000000"/>
                </a:solidFill>
                <a:latin typeface="Calibri"/>
              </a:rPr>
              <a:t>Kant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5° lez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collegamento tra le due 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Critiche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primato della ragion pra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Tratto da: http://www.webalice.it/leone.guaragna/scuola-scuola-scuola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© 2012 - L. Guaragn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I tre postulati della legge mor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 legge morale presuppone tre verità che non sono oggetto di scienza ma, ma che vanno assunte come vere senza dimostrazione (postula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 libertà della volont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’immortalità dell’an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’esistenza di D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1. Libertà della volont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e non fossimo liberi non potremmo esercitare la moralit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Ma noi esercitiamo la moralità (la legge morale è dentro di no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unque dobbiamo ammettere che la libertà esiste anche se non possiamo dimostrarlo con la scien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n altre parole: la libertà è una realtà in sede di ragion pratica; è invece indimostrabile in sede teore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2. L’immortalità dell’ani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ssendo esseri finiti e imperfetti gli uomini non possono pensare di realizzare perfettamente la moralità, ma avverte l’esigenza continua di questo migliora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eve dunque essergli data la possibilità di continuare all’infinito questo processo di miglioramento: dobbiamo dunque presupporre l’immortalità dell’an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3. L’esistenza di 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me garante dell’accordo tra virtù e felicità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Il primato della ragion pra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 postulati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“danno alle Idee della ragione speculativa in genere </a:t>
            </a:r>
            <a:r>
              <a:rPr b="1" i="1" lang="it-IT" sz="3200" spc="-1" strike="noStrike">
                <a:solidFill>
                  <a:srgbClr val="ff0000"/>
                </a:solidFill>
                <a:latin typeface="Calibri"/>
              </a:rPr>
              <a:t>una realtà oggettiva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”  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(Ka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Il significato complessivo della </a:t>
            </a: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Critica della ragion pratica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e della filosofia kantiana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l di là del linguaggio tecnico e dei dettagli teorici della filosofia di Kant, l’intuizione di fondo che sta alla sua base è che l’uomo è un essere collocato tra due dimensioni contrapposte: da una parte è inserito nel rigido meccanicismo del mondo della natura: nasce, vive, si ammala, muore ecc. sottostando alle leggi naturali; dall’altro, attraverso l’esercizio della legge morale, sente di appartenere ad un universo morale e spirituale, infinitamente superiore a quello della natura, in cui è libero. E’ in questo che consiste il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primato della ragion pratica su quella pura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: essa ci mette di fronte all’infinito, alla spiritualità dell’uomo, e risolve su questo terreno i problemi che la metafisica teoretica lascia insolu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15:17:08Z</dcterms:created>
  <dc:creator>LG</dc:creator>
  <dc:description/>
  <dc:language>en-US</dc:language>
  <cp:lastModifiedBy>LG</cp:lastModifiedBy>
  <dcterms:modified xsi:type="dcterms:W3CDTF">2012-05-16T19:18:57Z</dcterms:modified>
  <cp:revision>192</cp:revision>
  <dc:subject/>
  <dc:title>Kant</dc:title>
</cp:coreProperties>
</file>